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1AB-9191-4857-9896-3F6E19E1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7401-014C-47A2-930C-D46BB51B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1DB-2CA4-4C04-B661-4E40D461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6459-6A78-40FE-9400-F6DFCEC9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69C-C228-4C0E-A056-D4191218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B43-820F-4A83-9635-6A781E02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818-4979-46B1-A477-2DAEAD1B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1414-4395-41E2-BFCD-302FA730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C2F-2759-4D51-AD95-9482220B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C8B9-8C38-414D-8DB4-071CE979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C8B-882D-4E0F-B053-0A173D37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568-6160-45BB-B213-90EBF1C5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5113-BBB5-481B-9649-F541E00EB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umériser" descr=""/>
          <p:cNvPicPr/>
          <p:nvPr/>
        </p:nvPicPr>
        <p:blipFill>
          <a:blip r:embed="rId1"/>
          <a:stretch/>
        </p:blipFill>
        <p:spPr>
          <a:xfrm>
            <a:off x="127080" y="1671480"/>
            <a:ext cx="6603840" cy="6562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32040" y="152280"/>
            <a:ext cx="3035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 COULEURS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 cercle chrom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83680" y="538308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im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51560" y="4087800"/>
            <a:ext cx="144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ouge prim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66080" y="408780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leu prim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23440" y="3249720"/>
            <a:ext cx="22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uleur complément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3661200">
            <a:off x="1128960" y="5307480"/>
            <a:ext cx="22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uleur complément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8013800">
            <a:off x="3485520" y="5304960"/>
            <a:ext cx="22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uleur complément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61720" y="723888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im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7960" y="342900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42120" y="342900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76880" y="6019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2600" y="6019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4560" y="21337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25360" y="48006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cy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53760" y="25146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cy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6280" y="480060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mag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5600" y="259092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mag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52320" y="70866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ja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85080" y="70866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ja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43200" y="8381880"/>
            <a:ext cx="6980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 couleur complémentaire est la couleur primaire qui n ’a pas été utilisée pour le mél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mple: la couleur complémentaire du orange est le cy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s tons clairs sont obtenus avec plus de blanc. Les tons foncés sont obtenus avec plus de no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s couleurs chaudes sont celles qui sont dans les rouges/jau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s couleurs froides sont celles qui sont dans les verts/b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7:19:04Z</dcterms:created>
  <dc:creator>Marc SCHMIDT</dc:creator>
  <dc:description/>
  <dc:language>en-US</dc:language>
  <cp:lastModifiedBy>Marc SCHMIDT</cp:lastModifiedBy>
  <cp:lastPrinted>2006-03-14T17:40:27Z</cp:lastPrinted>
  <dcterms:modified xsi:type="dcterms:W3CDTF">2006-03-14T17:55:14Z</dcterms:modified>
  <cp:revision>3</cp:revision>
  <dc:subject/>
  <dc:title>Aucun titre de diapositive</dc:title>
</cp:coreProperties>
</file>