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101-2C75-4A4A-9B85-EF85091F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FB5-FAF2-43E5-B101-2EA1AF49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A56-FE16-4B14-827E-F7011D2D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33C-B07B-4327-A7C1-E433DEEC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D68-AB53-4324-A7BD-719F941C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64E-DB41-4AAC-9380-9A33FFB3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835-AE6A-4704-9AFA-7F0D5DAD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A46-663A-4393-BDC8-80D65CFD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1AF-9D7A-49FD-944A-F33A4F77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511-44FE-4123-ADBF-9AB73457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33E-9D86-42F6-A2A5-8A807224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E81-F777-4312-8CFA-8B9455DD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D7DD-30F7-4D0B-AF08-7EC8A6888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umériser2" descr=""/>
          <p:cNvPicPr/>
          <p:nvPr/>
        </p:nvPicPr>
        <p:blipFill>
          <a:blip r:embed="rId1"/>
          <a:stretch/>
        </p:blipFill>
        <p:spPr>
          <a:xfrm>
            <a:off x="127080" y="1671480"/>
            <a:ext cx="6603840" cy="656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2040" y="152280"/>
            <a:ext cx="303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COULEURS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cercle chrom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83680" y="538308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51560" y="4087800"/>
            <a:ext cx="144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ouge 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66080" y="408780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bleu 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23440" y="324972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ouleur complémen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3661200">
            <a:off x="1128960" y="530748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uleur complémen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8013800">
            <a:off x="3485520" y="530496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ouleur complémen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61720" y="723888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7960" y="342900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42120" y="34290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7688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260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4560" y="21337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25360" y="48006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+ de 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53760" y="25146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+ de 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6280" y="480060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5600" y="259092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52320" y="70866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85080" y="70866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43200" y="8381880"/>
            <a:ext cx="698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 couleur complémentaire est la couleur primaire qui n ’a pas été utilisée pour le mél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mple: la couleur complémentaire du orange est le cy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s tons clairs sont obtenus avec plus de blanc. Les tons foncés sont obtenus avec plus de no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s couleurs chaudes sont celles qui sont dans les rouges/jau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s couleurs froides sont celles qui sont dans les verts/b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7:19:04Z</dcterms:created>
  <dc:creator>Marc SCHMIDT</dc:creator>
  <dc:description/>
  <dc:language>en-US</dc:language>
  <cp:lastModifiedBy>Marc SCHMIDT</cp:lastModifiedBy>
  <cp:lastPrinted>2006-03-14T17:39:56Z</cp:lastPrinted>
  <dcterms:modified xsi:type="dcterms:W3CDTF">2006-03-14T17:55:11Z</dcterms:modified>
  <cp:revision>4</cp:revision>
  <dc:subject/>
  <dc:title>Aucun titre de diapositive</dc:title>
</cp:coreProperties>
</file>